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608-7BA1-485D-BB44-65F92C5B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5DB-D322-4C54-9992-446EBD0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570-E479-4BD3-98C8-7C32502A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5B5-5241-45CD-8293-F6F3F2EC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743-36B1-44B2-8B7C-AFE611C9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FFE-0DDE-4997-A9C5-47B97911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E93-DA1B-4A12-A7A1-A70E4C0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007-2C17-49AF-9458-44F57543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C83-565E-4903-AB39-BACCB655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931-8582-4CFB-8969-A29956B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923-D419-4383-9B83-AF4489F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A53-0BC8-4860-ABCB-0FB0D29C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9415-BB77-4EB7-A265-ACA07DCCCD7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54:18Z</dcterms:created>
  <dc:creator>Grupo Editorial</dc:creator>
  <dc:description/>
  <dc:language>en-US</dc:language>
  <cp:lastModifiedBy>TORRES</cp:lastModifiedBy>
  <dcterms:modified xsi:type="dcterms:W3CDTF">2010-12-19T08:12:58Z</dcterms:modified>
  <cp:revision>2</cp:revision>
  <dc:subject/>
  <dc:title>Sin título de diapositiva</dc:title>
</cp:coreProperties>
</file>